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FA482-5502-4B54-B91A-055CDC97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9BD47-647A-4E05-93C6-C0B0E9A1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7E222-8853-437F-9911-FEDC6E2D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FDA25-06BF-4ED6-B272-C7E927A0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A656-89DF-48D8-9C1E-2977234F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98DC-21CC-4A94-BB40-5BB4B679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F699-8D2C-48B4-850A-13D2665D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FE98-9C1A-407D-8C0F-024F241B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B90A-42FD-4C03-91BD-E7A32756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B7FA-A5F1-4328-8276-D3CC8C8F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C025-0FA3-44A6-90A9-C266D2AF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8B46-F651-43E6-B1FB-83861A96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F40E-65DD-4C63-A3F8-5081A5F6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590A-3733-4958-B494-AB8B2899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7706-B753-4604-AE25-2D1EA3E5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05CB-0D13-4EB9-9017-0B61A455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C8BA-150C-426D-9C03-FA088B2B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4A3FC-F540-41A5-B389-36697197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CE8A5-5240-4C78-ADE3-2961C243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F510-0F42-4A83-A85D-8AC33E10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ED9A0-CD6E-48F9-AC18-F96DD837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CF30D-3CD8-47AE-91DB-2A085DAF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01AC-4680-49D0-B6A7-C74E163A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3B03-DF10-426E-BBAA-043A9D15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BDAC-1934-41B7-96C6-B93832D066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9B90-09DD-43E5-81A3-FA713C21C0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508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8160" y="2225160"/>
            <a:ext cx="764676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ubstitution cipher that tries to hide frequency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it by randomly assigning one of four numbers to each letter based on a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58A0C-46A3-4724-8BA3-E6A1D97EFA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6520" y="1916280"/>
            <a:ext cx="8520120" cy="28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numbers 1 to 100 (represent 100 by 00) up into four groups of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one number from each group to the letters a to z (skipping j – any j in the plaintext is coded as an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accomplished like the simple shift cipher so if a is assigned 07 then b is assigned 08,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determined by a four letter keyword, for example if the keyword is “next” then the assignment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01560" y="4703760"/>
            <a:ext cx="58197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01 02 03 04 05 06 07 08 09 10 11 12 13 14 15 16 17 18 19 20 21 22 23 24 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  o  p  q  r  s  t  u  v  w  x  y  z  a  b  c  d  e  f  g  h  i  k  l  m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6 27 28 29 30 31 32 33 34 35 36 37 38 39 40 41 42 43 44 45 46 47 48 49 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  f  g  h  i  k  l  m  n  o  p  q  r  s  t  u  v  w  x  y  z  a  b  c 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1 52 53 54 55 56 57 58 59 60 61 62 63 64 65 66 67 68 69 70 71 72 73 74 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  y  z  a  b  c  d  e  f  g  h  i  k  l  m  n  o  p  q  r  s  t  u  v  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6 77 78 79 80 81 82 83 84 85 86 87 88 89 90 91 92 93 94 95 96 97 98 99 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  u  v  w  x  y  z  a  b  c  d  e  f  g  h  i  k  l  m  n  o  p  q  r  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7120" y="4808520"/>
            <a:ext cx="344520" cy="1720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E9A5-279E-41E9-A98C-B44D7C186B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4-30T23:35:38Z</dcterms:modified>
  <cp:revision>69</cp:revision>
  <dc:subject/>
  <dc:title>CAP Cryptographic Analysis Program</dc:title>
</cp:coreProperties>
</file>